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C13B-C9AE-40C1-9F7C-BF947135E6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DE7-71AB-4E50-A92C-65D75235E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9A1-BDC7-4044-BE2F-36276A7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8AC-46AC-41BA-8B75-605161A4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539-95FB-4BE8-A71F-902AEA8B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CC9-AED8-45A3-8B3B-D939E602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198-CB55-4B66-816D-5DB3808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3B4-02DC-4C0A-96A2-A2E68DCC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22E-BAB8-40E6-9B71-0556469F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2128-DC4B-4576-BC54-32221033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779-CF5D-4E4E-98B5-47388F24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FAE-2C6A-4CF6-9F02-288A92FD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256-F70A-471D-80C4-58A0C454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D00-1CEF-449C-921F-6F11658C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8674-D791-48EC-9BD7-AF6B556EF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astweb.com/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ollege.monster.com/" TargetMode="Externa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fafsa.ed.gov/" TargetMode="External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ege is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ge Education Opens Do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 Better Job and Many Other Benef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Lot of Fu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to do amazing things and to train for a job you will enjoy. There are many activities on college camp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meet smart and interesting people and make lifelong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college, it is cool to be smart. You will learn how to think and express yourself more clearly and solve important problems. You will become more conf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6779-6BF8-4FA5-AE2A-88771EF9C419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our democracy every young person should have an equal opportunity to obtain a higher education, regardless of his station in life or financial mean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resident John F. Kenn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Content Placeholder 6" descr="John_F_Kennedy-749600.jpg"/>
          <p:cNvPicPr/>
          <p:nvPr/>
        </p:nvPicPr>
        <p:blipFill>
          <a:blip r:embed="rId1"/>
          <a:stretch/>
        </p:blipFill>
        <p:spPr>
          <a:xfrm>
            <a:off x="5562720" y="1600200"/>
            <a:ext cx="2762280" cy="366696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5352-D984-4001-9238-05F7071F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College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reem Abdul-Jabbar – UC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Clinton – Georgetow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lary Clinton – Welles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Cosby – Templ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ria Estefan – Univ. of Mi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die Foster – Yal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is Gossett, Jr. – NY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gh Hefner – Univ. of Illin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ic Johnson – Michigan 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my Lee Jones – Harv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F. Kennedy – Harv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n Luther King Jr. – 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ke Lee – Morehouse, NY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0663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y Leno – Emerson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id Letterman – Ball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ll Nye – Bridgewat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quille O'Neal – L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ack Obama – Occid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alie Portman – Harv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in Powell – CUNY, GW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nald Reagan – Eure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K. Rowling – Univ. of Ex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ia Sotomayor – Prince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ia Stiles – Colu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ourney Weaver – Stanf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rah Winfrey – Tenn.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DB70-4252-4580-88EA-292C2E09F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ay for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helps you pay the college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types of student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larships are about more than just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find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need-based 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falls: Beware of scholarship scam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58D2-1031-4D8E-B08C-CC960296FC81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ing College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ion costs money, but then so does igno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Claus Mo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Content Placeholder 8" descr="_303632_sir_claus150.jpg"/>
          <p:cNvPicPr/>
          <p:nvPr/>
        </p:nvPicPr>
        <p:blipFill>
          <a:blip r:embed="rId1"/>
          <a:stretch/>
        </p:blipFill>
        <p:spPr>
          <a:xfrm>
            <a:off x="5257800" y="1905120"/>
            <a:ext cx="3011400" cy="32479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5E6-0287-4562-98FF-16AD9DF6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Pays the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n’t as expensive as you might th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lot of money available to help you pay for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financial aid will help you bridge the gap between college costs and what you and your family can afford to p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aid includes money from the federal and state government, money from the colleges themselves, and scholarships from foundations, private organizations and compa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257E-FEBE-4A96-AD91-17B496A129D8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Types of Student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 aid, such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a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larshi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free money that does not need to be repa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employment, such as part-ti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k-study jo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ts you earn as you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udent loa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money that is repaid over several years, usually with inter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tax benefits, such a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pe Schola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 credit, which is money you get by filing a federal income tax return, even if you don’t owe any tax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itary student aid, such 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I Bi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you earn money for your education in exchange for service in the United States Armed Fo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7713-D1BD-482A-AB1E-59811B18333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est Type of Student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ts and scholarships are better than student loans because you don’t have to pay them bac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awarded based on financial need (the difference between the costs and ability to pa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based on academic, artistic or athletic merit or other skills and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unds are based on unusual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prom costume out of duct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larship for left-hande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cholarship for students with a last name of Zo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F4F9-92D5-4414-8BE9-1CF8BD065C69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Passport to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ion is our passport to the future, for tomorrow belongs to the people who prepare for it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colm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Content Placeholder 8" descr="Malcolm_X_NYWTS_4.jpg"/>
          <p:cNvPicPr/>
          <p:nvPr/>
        </p:nvPicPr>
        <p:blipFill>
          <a:blip r:embed="rId1"/>
          <a:stretch/>
        </p:blipFill>
        <p:spPr>
          <a:xfrm>
            <a:off x="4879800" y="1417680"/>
            <a:ext cx="3651480" cy="417492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064-E965-4553-94A7-9BAF0CF9D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Just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rganizations that award scholarships are focused on more than just giving away mone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ant to eliminate barriers to college succ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ry to build a community of their scholarship recipi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meet people just like yourself and make lifelong frie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get someone to talk to, someone you can t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3930-329E-4AC9-9A88-749D9B3C7E1E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 You Go To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is the pathway to success and a bette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graduates earn more money and get bette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mployment rates are lower for college gradu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will help you help your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ge is a lot of fu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ho’s Who of Famous College Gradu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Pay for Colle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B71-522E-4F3F-B062-0101ADC6BDEC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Find Scholarship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free online scholarship match service lik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stWeb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t takes only half an h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matches your personal background characteristics against a very large database of scholarships, so you will see only those scholarships for which you are qual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stWeb database is updated daily, with automatic email notification of new awards that match your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stWeb site also provides a lot of news, information and ad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F3ECD-A93E-41D3-BF88-D9C58F509B67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Ways of Finding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guidance counselor might post information about scholarships outside his/her office or on the school web 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guidance counselors publicize scholarships in the school bulletin or distribute scholarship book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find scholarships in books in your local public library or bookst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terColleg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llege.monster.c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ists internships and part-time/entry-level jobs as another source of money for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6835-CF18-4B7C-8D2D-D0147E9CF21C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earching for Scholarships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searching for scholarships as soon as possi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cholarships with deadlines throughout the year, so the sooner you start searching, the more scholarships you will fi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even scholarships for children in the grades K-8 in addition to scholarships for high school students in grades 9-1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ntinue searching for scholarships after you are enrolled in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EE84-B03F-440A-8DE1-F811E7CE646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Scholar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locate the scholarships, you will need to submit an application to each schola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cholarships require short essays, letters of recommendation and high school tran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become a finalist, some scholarships will conduct an in-person or telephone intervie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in the scholarship, the sponsor will hold the money until you have enrolled in college. They will then send a check to you and/or to the college to help you with your college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7DA4-D944-446D-B657-E9B4F27567B5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ose Your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cholarships are renewable, which means you get money every year you are in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you will need to get good grades to keep the scholarship and send a short progress report to the sponsor once a ye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ight also need to get involved in community service or other activ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D0E7-E582-4ECF-A1A3-53E73F643B12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is an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a man empties his purse into his head, no one can take it from him. An investment in knowledge always pays the highest retu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Content Placeholder 8" descr="Benjamin-Franklin-U.S.-$100-bill.jpg"/>
          <p:cNvPicPr/>
          <p:nvPr/>
        </p:nvPicPr>
        <p:blipFill>
          <a:blip r:embed="rId1"/>
          <a:stretch/>
        </p:blipFill>
        <p:spPr>
          <a:xfrm>
            <a:off x="4648320" y="1400040"/>
            <a:ext cx="4114800" cy="42102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FB27-9750-4046-8B1D-2FBF53AAC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you apply for need-based a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 the Free Application for Federal Student Aid (FAFSA) online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afsa.ed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pply for need-based grants, loans and work-stu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FSA is used to calculate your “expected family contribution” or EFC, a measure of your family’s annual ability to pay for colle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wer EFC makes you eligible to receive more need-based financial aid, such as the Federal Pell Gr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Need = Cost of Attendance – E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th a lower EFC qualify for more financial 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th a zero EFC (mostly students with family income less than $30,000) have full financial need and qualify for even more financial aid to help pay for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6538-BD7A-4A36-8C35-96602134F9C6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Scholarship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066320"/>
            <a:ext cx="822960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are of scholarships that charge any kind of an application fee, even if it is just a few doll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't invest more than a postage stamp for information about scholarships or to apply for scholarshi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have to pay money to get mone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probably a sc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give out your Social Security number, bank account number, credit card number or debit card number to any scholarship provi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ody can guarantee that you will win a scholarsh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B2DB-E8E8-4540-976F-6C823E0DE707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of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function of the university is not simply to teach bread-winning, or to furnish teachers for the public schools or to be a centre of polite society; it is, above all, to be the organ of that fine adjustment between real life and the growing knowledge of life, an adjustment which forms the secret of civilization.</a:t>
            </a:r>
            <a:br>
              <a:rPr sz="21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W.E.B. DuBo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Souls of Black Fo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ontent Placeholder 6" descr="WEB_DuBois_1918.jpg"/>
          <p:cNvPicPr/>
          <p:nvPr/>
        </p:nvPicPr>
        <p:blipFill>
          <a:blip r:embed="rId1"/>
          <a:stretch/>
        </p:blipFill>
        <p:spPr>
          <a:xfrm>
            <a:off x="4816440" y="1066680"/>
            <a:ext cx="3778200" cy="4876920"/>
          </a:xfrm>
          <a:prstGeom prst="rect">
            <a:avLst/>
          </a:prstGeom>
          <a:ln w="0">
            <a:noFill/>
          </a:ln>
        </p:spPr>
      </p:pic>
      <p:sp>
        <p:nvSpPr>
          <p:cNvPr id="177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F2F2-B66E-4FA0-B7B1-CBF69626D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7B98-D4C6-4686-8FEE-B63D71E68C95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 Success and a Bette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opens doors to opportunity and expands your horizons. You will experience new points of vie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ing from college will be a source of pride because it is a great accomplish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get to follow your dreams and determine your fut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4B0-8840-4078-B87B-8CC7865073F9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Graduates Earn More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4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73076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94E-6B78-4669-B7AF-36C2A03E7D42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n More by Staying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cho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du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arn $430,000 more over their lifetimes than high scho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opo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your income by graduating from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sociate’s degree is worth $390,000 more than a high school dipl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chelor’s degree is worth $1.2 million more than a high school dipl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torate (Ph.D.) is worth $1.7 million more than a Bachelor’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fessional (law or medical) degree is worth $2.9 million more than a Bachelor’s deg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7DA-FC93-45EF-85BB-78E6CAC0B739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a Pathway to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3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a global economy where the most valuable skill you can sell is your knowledge, a good education is no longer just a pathway to opportunity – it is a prerequi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Barack Ob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6" descr="3197571945_123937185f.jpg"/>
          <p:cNvPicPr/>
          <p:nvPr/>
        </p:nvPicPr>
        <p:blipFill>
          <a:blip r:embed="rId1"/>
          <a:stretch/>
        </p:blipFill>
        <p:spPr>
          <a:xfrm>
            <a:off x="5410080" y="1676520"/>
            <a:ext cx="2743200" cy="373680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4"/>
          <p:cNvSpPr/>
          <p:nvPr/>
        </p:nvSpPr>
        <p:spPr>
          <a:xfrm>
            <a:off x="152280" y="6248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6322-ABB1-436B-A07E-227CB469D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is Required for a Bette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highest paying jobs require a college deg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s for college graduates include better benefits, such as health insurance and retirement pl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graduates have half the unemployment rates of high school graduates and better job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more jobs available for college graduates than high school gradu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A758-191D-48C3-A61F-2689E0E07143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= Lower Unemploymen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450720" y="1139760"/>
            <a:ext cx="8242560" cy="473076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4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F8D1-76F8-432D-B78B-C1B8AF6A3A40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6324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e Helps You Help Your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able to support your family with a larger sal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pave the way for your brothers and sisters and other relatives to go to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able to help your children with their homework and give them a better life. As a result, they will be more likely to attend colle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0" y="624852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691D-6887-445A-ADE0-8E69C990EBCA}" type="slidenum">
              <a:rPr b="1" lang="en-US" sz="1400" spc="-1" strike="noStrike">
                <a:solidFill>
                  <a:srgbClr val="7030a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48:50Z</dcterms:created>
  <dc:creator>Monster Worldwide</dc:creator>
  <dc:description/>
  <dc:language>en-US</dc:language>
  <cp:lastModifiedBy>ASD</cp:lastModifiedBy>
  <dcterms:modified xsi:type="dcterms:W3CDTF">2011-06-08T17:40:45Z</dcterms:modified>
  <cp:revision>130</cp:revision>
  <dc:subject/>
  <dc:title>PowerPoint Presentation</dc:title>
</cp:coreProperties>
</file>